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6499-3674-492F-97C6-575DC599027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hdr"/>
          </p:nvPr>
        </p:nvSpPr>
        <p:spPr>
          <a:xfrm>
            <a:off x="1574280" y="88920"/>
            <a:ext cx="3683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oardworks GCSE Science: Chemis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aking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"/>
          <p:cNvSpPr/>
          <p:nvPr/>
        </p:nvSpPr>
        <p:spPr>
          <a:xfrm>
            <a:off x="1924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utumn 2006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F2A7-0827-475A-BD93-136C991FA8D0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1574640" y="88920"/>
            <a:ext cx="368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GCSE Science: Chemistr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king Polymer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040" y="4273200"/>
            <a:ext cx="542916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099B-CCD8-4FBC-9D0D-9FA4C05FB49E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574640" y="88920"/>
            <a:ext cx="368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GCSE Science: Chemistr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king Polymer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F370-D276-4A65-AB4C-E2F381C23E9E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98" name="Rectangle 8"/>
          <p:cNvSpPr/>
          <p:nvPr/>
        </p:nvSpPr>
        <p:spPr>
          <a:xfrm>
            <a:off x="1574640" y="88920"/>
            <a:ext cx="368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GCSE Science: Chemistr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king Polymer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5F36-2F21-4F9A-9D4C-1EEC0222B8F2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1574640" y="88920"/>
            <a:ext cx="368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GCSE Science: Chemistr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king Polymer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DFEC-F3B7-44E0-8131-8E5B3C523DB8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1574640" y="88920"/>
            <a:ext cx="368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GCSE Science: Chemistr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king Polymer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additional exercise would be to ask student to identify objects in the scene that are made of or contain pla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D4E5-C74E-4A38-BB79-F1EE6D359B31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10" name="Rectangle 8"/>
          <p:cNvSpPr/>
          <p:nvPr/>
        </p:nvSpPr>
        <p:spPr>
          <a:xfrm>
            <a:off x="1574640" y="88920"/>
            <a:ext cx="368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GCSE Science: Chemistr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king Polymer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E5C2-F967-4D24-A2A1-C78AF9FC794A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1574640" y="88920"/>
            <a:ext cx="368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GCSE Science: Chemistr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king Polymer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654C-9F79-4FAD-95D7-ECE83B2306DF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1574640" y="88920"/>
            <a:ext cx="368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GCSE Science: Chemistr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king Polymer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04BB-E3F8-4F76-8890-888383A58B04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22" name="Rectangle 8"/>
          <p:cNvSpPr/>
          <p:nvPr/>
        </p:nvSpPr>
        <p:spPr>
          <a:xfrm>
            <a:off x="1574640" y="88920"/>
            <a:ext cx="368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GCSE Science: Chemistr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king Polymer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5692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5692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5692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5692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5692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5692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55692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6" descr="slide_background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55"/>
          <p:cNvGrpSpPr/>
          <p:nvPr/>
        </p:nvGrpSpPr>
        <p:grpSpPr>
          <a:xfrm>
            <a:off x="239760" y="158760"/>
            <a:ext cx="360360" cy="360360"/>
            <a:chOff x="239760" y="158760"/>
            <a:chExt cx="360360" cy="360360"/>
          </a:xfrm>
        </p:grpSpPr>
        <p:grpSp>
          <p:nvGrpSpPr>
            <p:cNvPr id="2" name="Group 50"/>
            <p:cNvGrpSpPr/>
            <p:nvPr/>
          </p:nvGrpSpPr>
          <p:grpSpPr>
            <a:xfrm>
              <a:off x="239760" y="158760"/>
              <a:ext cx="360360" cy="360360"/>
              <a:chOff x="239760" y="158760"/>
              <a:chExt cx="360360" cy="360360"/>
            </a:xfrm>
          </p:grpSpPr>
          <p:sp>
            <p:nvSpPr>
              <p:cNvPr id="3" name="Oval 51"/>
              <p:cNvSpPr/>
              <p:nvPr/>
            </p:nvSpPr>
            <p:spPr>
              <a:xfrm>
                <a:off x="239760" y="158760"/>
                <a:ext cx="360360" cy="360360"/>
              </a:xfrm>
              <a:prstGeom prst="ellipse">
                <a:avLst/>
              </a:prstGeom>
              <a:solidFill>
                <a:srgbClr val="01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10066"/>
                  </a:solidFill>
                  <a:latin typeface="Arial"/>
                </a:endParaRPr>
              </a:p>
            </p:txBody>
          </p:sp>
          <p:sp>
            <p:nvSpPr>
              <p:cNvPr id="4" name="Oval 52"/>
              <p:cNvSpPr/>
              <p:nvPr/>
            </p:nvSpPr>
            <p:spPr>
              <a:xfrm>
                <a:off x="257040" y="176040"/>
                <a:ext cx="325800" cy="32544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10066"/>
                  </a:solidFill>
                  <a:latin typeface="Arial"/>
                </a:endParaRPr>
              </a:p>
            </p:txBody>
          </p:sp>
        </p:grpSp>
        <p:pic>
          <p:nvPicPr>
            <p:cNvPr id="5" name="Picture 54" descr="top_left_circle"/>
            <p:cNvPicPr/>
            <p:nvPr/>
          </p:nvPicPr>
          <p:blipFill>
            <a:blip r:embed="rId3"/>
            <a:stretch/>
          </p:blipFill>
          <p:spPr>
            <a:xfrm>
              <a:off x="271440" y="190440"/>
              <a:ext cx="295200" cy="29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Text Box 58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FA12-58E7-4393-B70D-73D0557B7E04}" type="slidenum">
              <a:rPr b="0" lang="en-GB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 of 43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7" name="Text Box 59"/>
          <p:cNvSpPr/>
          <p:nvPr/>
        </p:nvSpPr>
        <p:spPr>
          <a:xfrm>
            <a:off x="644508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© Boardworks Ltd 2006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8" name="Picture 60" descr="back_arrow_trans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10800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10" name="Picture 65" descr="forward_arrow_grey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9" descr="CC3_contents_1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back_arrow_trans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167520"/>
            <a:ext cx="630360" cy="574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forward_arrow_colour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6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3627-A87E-4E34-865C-EA25AA0E8A13}" type="slidenum">
              <a:rPr b="0" lang="en-GB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 of 43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644508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© Boardworks Ltd 2006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0" descr="CC3_contents_2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back_arrow_trans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167520"/>
            <a:ext cx="630360" cy="574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forward_arrow_colour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7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8A4B-8E9B-42F9-B309-85FE2EFF01DF}" type="slidenum">
              <a:rPr b="0" lang="en-GB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 of 43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644508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© Boardworks Ltd 2006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0" descr="CC3_contents_3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back_arrow_trans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167520"/>
            <a:ext cx="630360" cy="574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forward_arrow_colour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7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A009-B366-4827-863F-67284B8C9967}" type="slidenum">
              <a:rPr b="0" lang="en-GB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 of 43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644508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© Boardworks Ltd 2006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0" descr="CC3_contents_4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back_arrow_trans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167520"/>
            <a:ext cx="630360" cy="574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forward_arrow_colour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7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4361-D596-4E75-9080-2B10AEAAFA42}" type="slidenum">
              <a:rPr b="0" lang="en-GB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 of 43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644508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© Boardworks Ltd 2006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2" descr="CC3_contents_5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back_arrow_trans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167520"/>
            <a:ext cx="630360" cy="574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forward_arrow_colour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0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5D6B-29B0-49CA-8FB6-C2944B41F664}" type="slidenum">
              <a:rPr b="0" lang="en-GB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 of 43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644508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© Boardworks Ltd 2006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0" descr="CC3_title_slide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6" descr="forward_arrow_colou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17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1D2A-56DE-4ED6-B34C-93F0133AECE8}" type="slidenum">
              <a:rPr b="0" lang="en-GB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 of 43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644508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© Boardworks Ltd 2006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9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2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45" descr="polymer3"/>
          <p:cNvPicPr/>
          <p:nvPr/>
        </p:nvPicPr>
        <p:blipFill>
          <a:blip r:embed="rId1"/>
          <a:stretch/>
        </p:blipFill>
        <p:spPr>
          <a:xfrm>
            <a:off x="700200" y="1649520"/>
            <a:ext cx="7743600" cy="462744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7"/>
          <p:cNvSpPr/>
          <p:nvPr/>
        </p:nvSpPr>
        <p:spPr>
          <a:xfrm>
            <a:off x="563400" y="2535120"/>
            <a:ext cx="711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word ‘polymer’ comes from the Greek words </a:t>
            </a:r>
            <a:r>
              <a:rPr b="0" i="1" lang="en-GB" sz="2400" spc="-1" strike="noStrike">
                <a:solidFill>
                  <a:srgbClr val="010066"/>
                </a:solidFill>
                <a:latin typeface="Arial"/>
              </a:rPr>
              <a:t>poly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(meaning ‘many’) and </a:t>
            </a:r>
            <a:r>
              <a:rPr b="0" i="1" lang="en-GB" sz="2400" spc="-1" strike="noStrike">
                <a:solidFill>
                  <a:srgbClr val="010066"/>
                </a:solidFill>
                <a:latin typeface="Arial"/>
              </a:rPr>
              <a:t>meros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(meaning ‘parts’)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02" name="Rectangle 372"/>
          <p:cNvSpPr/>
          <p:nvPr/>
        </p:nvSpPr>
        <p:spPr>
          <a:xfrm>
            <a:off x="563400" y="784080"/>
            <a:ext cx="858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Polymer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re very large molecules made when hundreds of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monomer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join together to form long chains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03" name="Text Box 376"/>
          <p:cNvSpPr/>
          <p:nvPr/>
        </p:nvSpPr>
        <p:spPr>
          <a:xfrm>
            <a:off x="1884240" y="4435560"/>
            <a:ext cx="53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Plastic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re synthetic polymers that can be shaped by heat or pressure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What are polymers?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305" name="Picture 453" descr="forward_arrow_colour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04" descr="polythene_balls"/>
          <p:cNvPicPr/>
          <p:nvPr/>
        </p:nvPicPr>
        <p:blipFill>
          <a:blip r:embed="rId1"/>
          <a:stretch/>
        </p:blipFill>
        <p:spPr>
          <a:xfrm>
            <a:off x="2392200" y="2801880"/>
            <a:ext cx="5783400" cy="1596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03" descr="polythene_symbols"/>
          <p:cNvPicPr/>
          <p:nvPr/>
        </p:nvPicPr>
        <p:blipFill>
          <a:blip r:embed="rId2"/>
          <a:stretch/>
        </p:blipFill>
        <p:spPr>
          <a:xfrm>
            <a:off x="2306520" y="4842000"/>
            <a:ext cx="5829480" cy="14270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563400" y="784080"/>
            <a:ext cx="846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monomers in a polymer are joined together by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covalent bond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between atoms.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563400" y="1743120"/>
            <a:ext cx="858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n a covalent bond, each atom shares one or more electron with another atom. The bonds are sometimes shown as sticks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What keeps the chain together?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311" name="Group 406"/>
          <p:cNvGrpSpPr/>
          <p:nvPr/>
        </p:nvGrpSpPr>
        <p:grpSpPr>
          <a:xfrm>
            <a:off x="291960" y="3624480"/>
            <a:ext cx="2760120" cy="1832760"/>
            <a:chOff x="291960" y="3624480"/>
            <a:chExt cx="2760120" cy="1832760"/>
          </a:xfrm>
        </p:grpSpPr>
        <p:sp>
          <p:nvSpPr>
            <p:cNvPr id="312" name="Text Box 398"/>
            <p:cNvSpPr/>
            <p:nvPr/>
          </p:nvSpPr>
          <p:spPr>
            <a:xfrm>
              <a:off x="291960" y="4254480"/>
              <a:ext cx="1557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6600"/>
                  </a:solidFill>
                  <a:latin typeface="Arial"/>
                </a:rPr>
                <a:t>covalent bond</a:t>
              </a:r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313" name="Line 399"/>
            <p:cNvSpPr/>
            <p:nvPr/>
          </p:nvSpPr>
          <p:spPr>
            <a:xfrm flipV="1">
              <a:off x="1819800" y="3624480"/>
              <a:ext cx="1232280" cy="1069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oval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314" name="Line 405"/>
            <p:cNvSpPr/>
            <p:nvPr/>
          </p:nvSpPr>
          <p:spPr>
            <a:xfrm>
              <a:off x="1814760" y="4694760"/>
              <a:ext cx="1174320" cy="762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oval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pic>
        <p:nvPicPr>
          <p:cNvPr id="315" name="Picture 407" descr="forward_arrow_colou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58" descr="ethene"/>
          <p:cNvPicPr/>
          <p:nvPr/>
        </p:nvPicPr>
        <p:blipFill>
          <a:blip r:embed="rId1"/>
          <a:stretch/>
        </p:blipFill>
        <p:spPr>
          <a:xfrm>
            <a:off x="5264280" y="2786040"/>
            <a:ext cx="1550880" cy="1017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0" descr="propene"/>
          <p:cNvPicPr/>
          <p:nvPr/>
        </p:nvPicPr>
        <p:blipFill>
          <a:blip r:embed="rId2"/>
          <a:stretch/>
        </p:blipFill>
        <p:spPr>
          <a:xfrm>
            <a:off x="4938840" y="4956120"/>
            <a:ext cx="2198520" cy="13701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9"/>
          <p:cNvSpPr/>
          <p:nvPr/>
        </p:nvSpPr>
        <p:spPr>
          <a:xfrm>
            <a:off x="563400" y="784080"/>
            <a:ext cx="8409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any polymers are formed from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alkene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, which are a family of hydrocarbon molecules with the general formula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66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6600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563400" y="1770120"/>
            <a:ext cx="858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lkenes contain at least one double covalent bond between carbon atoms. The double bond makes them very reactive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What are polymers made from?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1" name="Rectangle 57"/>
          <p:cNvSpPr/>
          <p:nvPr/>
        </p:nvSpPr>
        <p:spPr>
          <a:xfrm>
            <a:off x="563400" y="2884320"/>
            <a:ext cx="3907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simplest alkene is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ethene (C</a:t>
            </a:r>
            <a:r>
              <a:rPr b="1" lang="en-GB" sz="24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H</a:t>
            </a:r>
            <a:r>
              <a:rPr b="1" lang="en-GB" sz="2400" spc="-1" strike="noStrike" baseline="-25000">
                <a:solidFill>
                  <a:srgbClr val="ff6600"/>
                </a:solidFill>
                <a:latin typeface="Arial"/>
              </a:rPr>
              <a:t>4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22" name="Rectangle 59"/>
          <p:cNvSpPr/>
          <p:nvPr/>
        </p:nvSpPr>
        <p:spPr>
          <a:xfrm>
            <a:off x="563400" y="5049720"/>
            <a:ext cx="4140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second simplest alkene is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propene (C</a:t>
            </a:r>
            <a:r>
              <a:rPr b="1" lang="en-GB" sz="2400" spc="-1" strike="noStrike" baseline="-25000">
                <a:solidFill>
                  <a:srgbClr val="ff6600"/>
                </a:solidFill>
                <a:latin typeface="Arial"/>
              </a:rPr>
              <a:t>3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H</a:t>
            </a:r>
            <a:r>
              <a:rPr b="1" lang="en-GB" sz="2400" spc="-1" strike="noStrike" baseline="-25000">
                <a:solidFill>
                  <a:srgbClr val="ff6600"/>
                </a:solidFill>
                <a:latin typeface="Arial"/>
              </a:rPr>
              <a:t>6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grpSp>
        <p:nvGrpSpPr>
          <p:cNvPr id="323" name="Group 65"/>
          <p:cNvGrpSpPr/>
          <p:nvPr/>
        </p:nvGrpSpPr>
        <p:grpSpPr>
          <a:xfrm>
            <a:off x="6145560" y="3449880"/>
            <a:ext cx="2544480" cy="2020320"/>
            <a:chOff x="6145560" y="3449880"/>
            <a:chExt cx="2544480" cy="2020320"/>
          </a:xfrm>
        </p:grpSpPr>
        <p:sp>
          <p:nvSpPr>
            <p:cNvPr id="324" name="Text Box 61"/>
            <p:cNvSpPr/>
            <p:nvPr/>
          </p:nvSpPr>
          <p:spPr>
            <a:xfrm>
              <a:off x="7237440" y="3768840"/>
              <a:ext cx="1452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6600"/>
                  </a:solidFill>
                  <a:latin typeface="Arial"/>
                </a:rPr>
                <a:t>double covalent</a:t>
              </a:r>
              <a:br>
                <a:rPr sz="2400"/>
              </a:br>
              <a:r>
                <a:rPr b="1" lang="en-GB" sz="2400" spc="-1" strike="noStrike">
                  <a:solidFill>
                    <a:srgbClr val="ff6600"/>
                  </a:solidFill>
                  <a:latin typeface="Arial"/>
                </a:rPr>
                <a:t>bond</a:t>
              </a:r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325" name="Line 62"/>
            <p:cNvSpPr/>
            <p:nvPr/>
          </p:nvSpPr>
          <p:spPr>
            <a:xfrm flipH="1" flipV="1">
              <a:off x="6145560" y="3449880"/>
              <a:ext cx="987120" cy="93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oval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326" name="Line 64"/>
            <p:cNvSpPr/>
            <p:nvPr/>
          </p:nvSpPr>
          <p:spPr>
            <a:xfrm flipH="1">
              <a:off x="6393240" y="4383360"/>
              <a:ext cx="727920" cy="1086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oval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pic>
        <p:nvPicPr>
          <p:cNvPr id="327" name="Picture 66" descr="forward_arrow_colou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7"/>
          <p:cNvSpPr/>
          <p:nvPr/>
        </p:nvSpPr>
        <p:spPr>
          <a:xfrm>
            <a:off x="563400" y="784080"/>
            <a:ext cx="85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ow are monomers turned into polymers?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329" name="Picture 11" descr="C3 2a_cartoon_PAT"/>
          <p:cNvPicPr/>
          <p:nvPr/>
        </p:nvPicPr>
        <p:blipFill>
          <a:blip r:embed="rId1"/>
          <a:srcRect l="4279" t="0" r="4279" b="0"/>
          <a:stretch/>
        </p:blipFill>
        <p:spPr>
          <a:xfrm>
            <a:off x="244440" y="1297080"/>
            <a:ext cx="8677440" cy="48322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Making polymers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331" name="Picture 14" descr="notes_icon"/>
          <p:cNvPicPr/>
          <p:nvPr/>
        </p:nvPicPr>
        <p:blipFill>
          <a:blip r:embed="rId2"/>
          <a:stretch/>
        </p:blipFill>
        <p:spPr>
          <a:xfrm>
            <a:off x="7443720" y="150840"/>
            <a:ext cx="443160" cy="387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5" descr="forward_arrow_colou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Addition polymerization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669960" y="78408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olyethene (sometimes called polythene) is a polymer made from ethene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669960" y="1685880"/>
            <a:ext cx="84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process by which polyethene and other polymers is made is called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addition polymerization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 This is because many monomers (ethene molecules) are added together.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336" name="Picture 6" descr="ethene"/>
          <p:cNvPicPr/>
          <p:nvPr/>
        </p:nvPicPr>
        <p:blipFill>
          <a:blip r:embed="rId1"/>
          <a:stretch/>
        </p:blipFill>
        <p:spPr>
          <a:xfrm>
            <a:off x="339840" y="3132000"/>
            <a:ext cx="1550880" cy="10177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ethene"/>
          <p:cNvPicPr/>
          <p:nvPr/>
        </p:nvPicPr>
        <p:blipFill>
          <a:blip r:embed="rId2"/>
          <a:stretch/>
        </p:blipFill>
        <p:spPr>
          <a:xfrm>
            <a:off x="2652840" y="3132000"/>
            <a:ext cx="1550880" cy="1017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ethene"/>
          <p:cNvPicPr/>
          <p:nvPr/>
        </p:nvPicPr>
        <p:blipFill>
          <a:blip r:embed="rId3"/>
          <a:stretch/>
        </p:blipFill>
        <p:spPr>
          <a:xfrm>
            <a:off x="4967280" y="3132000"/>
            <a:ext cx="1550880" cy="1017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ethene"/>
          <p:cNvPicPr/>
          <p:nvPr/>
        </p:nvPicPr>
        <p:blipFill>
          <a:blip r:embed="rId4"/>
          <a:stretch/>
        </p:blipFill>
        <p:spPr>
          <a:xfrm>
            <a:off x="7281720" y="3094200"/>
            <a:ext cx="1551240" cy="1017360"/>
          </a:xfrm>
          <a:prstGeom prst="rect">
            <a:avLst/>
          </a:prstGeom>
          <a:ln w="0">
            <a:noFill/>
          </a:ln>
        </p:spPr>
      </p:pic>
      <p:grpSp>
        <p:nvGrpSpPr>
          <p:cNvPr id="340" name="Group 23"/>
          <p:cNvGrpSpPr/>
          <p:nvPr/>
        </p:nvGrpSpPr>
        <p:grpSpPr>
          <a:xfrm>
            <a:off x="4407480" y="4305240"/>
            <a:ext cx="4136400" cy="566640"/>
            <a:chOff x="4407480" y="4305240"/>
            <a:chExt cx="4136400" cy="566640"/>
          </a:xfrm>
        </p:grpSpPr>
        <p:sp>
          <p:nvSpPr>
            <p:cNvPr id="341" name="Text Box 18"/>
            <p:cNvSpPr/>
            <p:nvPr/>
          </p:nvSpPr>
          <p:spPr>
            <a:xfrm rot="5400000">
              <a:off x="4355640" y="43603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Monotype Sorts"/>
                  <a:ea typeface="Monotype Sorts"/>
                </a:rPr>
                <a:t></a:t>
              </a:r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342" name="Text Box 19"/>
            <p:cNvSpPr/>
            <p:nvPr/>
          </p:nvSpPr>
          <p:spPr>
            <a:xfrm>
              <a:off x="4800600" y="4305240"/>
              <a:ext cx="37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6600"/>
                  </a:solidFill>
                  <a:latin typeface="Arial"/>
                </a:rPr>
                <a:t>addition polymerization</a:t>
              </a:r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sp>
        <p:nvSpPr>
          <p:cNvPr id="343" name="Text Box 20"/>
          <p:cNvSpPr/>
          <p:nvPr/>
        </p:nvSpPr>
        <p:spPr>
          <a:xfrm>
            <a:off x="587520" y="4292640"/>
            <a:ext cx="17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monomers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grpSp>
        <p:nvGrpSpPr>
          <p:cNvPr id="344" name="Group 24"/>
          <p:cNvGrpSpPr/>
          <p:nvPr/>
        </p:nvGrpSpPr>
        <p:grpSpPr>
          <a:xfrm>
            <a:off x="587520" y="5076720"/>
            <a:ext cx="6298920" cy="1400400"/>
            <a:chOff x="587520" y="5076720"/>
            <a:chExt cx="6298920" cy="1400400"/>
          </a:xfrm>
        </p:grpSpPr>
        <p:pic>
          <p:nvPicPr>
            <p:cNvPr id="345" name="Picture 13" descr="polythene_symbols"/>
            <p:cNvPicPr/>
            <p:nvPr/>
          </p:nvPicPr>
          <p:blipFill>
            <a:blip r:embed="rId5"/>
            <a:stretch/>
          </p:blipFill>
          <p:spPr>
            <a:xfrm>
              <a:off x="2259000" y="5076720"/>
              <a:ext cx="4627440" cy="14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Text Box 21"/>
            <p:cNvSpPr/>
            <p:nvPr/>
          </p:nvSpPr>
          <p:spPr>
            <a:xfrm>
              <a:off x="587520" y="551808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6600"/>
                  </a:solidFill>
                  <a:latin typeface="Arial"/>
                </a:rPr>
                <a:t>polymer</a:t>
              </a:r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pic>
        <p:nvPicPr>
          <p:cNvPr id="347" name="Picture 25" descr="forward_arrow_colour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Drawing polymers – shorthand formulae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563400" y="784080"/>
            <a:ext cx="840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olymers contain thousands of molecules, so how can their structures be easily drawn?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563400" y="1762200"/>
            <a:ext cx="84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art of the polymer molecule can be drawn: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351" name="Picture 7" descr="polythene_symbols"/>
          <p:cNvPicPr/>
          <p:nvPr/>
        </p:nvPicPr>
        <p:blipFill>
          <a:blip r:embed="rId1"/>
          <a:stretch/>
        </p:blipFill>
        <p:spPr>
          <a:xfrm>
            <a:off x="1690560" y="2405160"/>
            <a:ext cx="5762880" cy="141120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8"/>
          <p:cNvSpPr/>
          <p:nvPr/>
        </p:nvSpPr>
        <p:spPr>
          <a:xfrm>
            <a:off x="563400" y="4121280"/>
            <a:ext cx="84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better way is to show a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shorthan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formula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353" name="Picture 9" descr="polythene_formula"/>
          <p:cNvPicPr/>
          <p:nvPr/>
        </p:nvPicPr>
        <p:blipFill>
          <a:blip r:embed="rId2"/>
          <a:stretch/>
        </p:blipFill>
        <p:spPr>
          <a:xfrm>
            <a:off x="1690560" y="4665600"/>
            <a:ext cx="1677960" cy="177336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0"/>
          <p:cNvSpPr/>
          <p:nvPr/>
        </p:nvSpPr>
        <p:spPr>
          <a:xfrm>
            <a:off x="3705120" y="4905360"/>
            <a:ext cx="517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‘</a:t>
            </a:r>
            <a:r>
              <a:rPr b="0" i="1" lang="en-GB" sz="2400" spc="-1" strike="noStrike">
                <a:solidFill>
                  <a:srgbClr val="010066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’ means that the polymer contains a very large number of the repeating unit shown in the brackets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355" name="Picture 11" descr="forward_arrow_colou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What’s the polymer?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563400" y="784080"/>
            <a:ext cx="84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is the shorthand formula for polypropene?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563400" y="1660680"/>
            <a:ext cx="2408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monomer is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propen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(C</a:t>
            </a:r>
            <a:r>
              <a:rPr b="0" lang="en-GB" sz="2400" spc="-1" strike="noStrike" baseline="-25000">
                <a:solidFill>
                  <a:srgbClr val="010066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</a:t>
            </a:r>
            <a:r>
              <a:rPr b="0" lang="en-GB" sz="2400" spc="-1" strike="noStrike" baseline="-25000">
                <a:solidFill>
                  <a:srgbClr val="010066"/>
                </a:solidFill>
                <a:latin typeface="Arial"/>
              </a:rPr>
              <a:t>6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359" name="Picture 8" descr="propene"/>
          <p:cNvPicPr/>
          <p:nvPr/>
        </p:nvPicPr>
        <p:blipFill>
          <a:blip r:embed="rId1"/>
          <a:stretch/>
        </p:blipFill>
        <p:spPr>
          <a:xfrm>
            <a:off x="3043080" y="1422360"/>
            <a:ext cx="2198880" cy="1370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9"/>
          <p:cNvSpPr/>
          <p:nvPr/>
        </p:nvSpPr>
        <p:spPr>
          <a:xfrm>
            <a:off x="5430960" y="1660680"/>
            <a:ext cx="196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ich can</a:t>
            </a:r>
            <a:br>
              <a:rPr sz="2400"/>
            </a:b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e drawn as: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361" name="Picture 10" descr="propene2"/>
          <p:cNvPicPr/>
          <p:nvPr/>
        </p:nvPicPr>
        <p:blipFill>
          <a:blip r:embed="rId2"/>
          <a:stretch/>
        </p:blipFill>
        <p:spPr>
          <a:xfrm>
            <a:off x="7372440" y="1496880"/>
            <a:ext cx="1428840" cy="122076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11"/>
          <p:cNvSpPr/>
          <p:nvPr/>
        </p:nvSpPr>
        <p:spPr>
          <a:xfrm>
            <a:off x="563400" y="3008160"/>
            <a:ext cx="501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Draw two C atoms that were in the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doubl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bond with a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singl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covalent bond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563400" y="4299120"/>
            <a:ext cx="47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Draw the brackets and the ‘</a:t>
            </a:r>
            <a:r>
              <a:rPr b="0" i="1" lang="en-GB" sz="2400" spc="-1" strike="noStrike">
                <a:solidFill>
                  <a:srgbClr val="010066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’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64" name="Text Box 14"/>
          <p:cNvSpPr/>
          <p:nvPr/>
        </p:nvSpPr>
        <p:spPr>
          <a:xfrm>
            <a:off x="563400" y="5419800"/>
            <a:ext cx="527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dd the atoms that were attached to each C atom of the double bond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563400" y="4859280"/>
            <a:ext cx="51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dd the links outside the brackets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grpSp>
        <p:nvGrpSpPr>
          <p:cNvPr id="366" name="Group 25"/>
          <p:cNvGrpSpPr/>
          <p:nvPr/>
        </p:nvGrpSpPr>
        <p:grpSpPr>
          <a:xfrm>
            <a:off x="6311880" y="3710160"/>
            <a:ext cx="2048040" cy="2372400"/>
            <a:chOff x="6311880" y="3710160"/>
            <a:chExt cx="2048040" cy="2372400"/>
          </a:xfrm>
        </p:grpSpPr>
        <p:pic>
          <p:nvPicPr>
            <p:cNvPr id="367" name="Picture 19" descr="polypropene_formula4"/>
            <p:cNvPicPr/>
            <p:nvPr/>
          </p:nvPicPr>
          <p:blipFill>
            <a:blip r:embed="rId3"/>
            <a:stretch/>
          </p:blipFill>
          <p:spPr>
            <a:xfrm>
              <a:off x="6481800" y="3713040"/>
              <a:ext cx="1690560" cy="17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polypropene_formula1"/>
            <p:cNvPicPr/>
            <p:nvPr/>
          </p:nvPicPr>
          <p:blipFill>
            <a:blip r:embed="rId4"/>
            <a:stretch/>
          </p:blipFill>
          <p:spPr>
            <a:xfrm>
              <a:off x="6470640" y="3754440"/>
              <a:ext cx="1725480" cy="170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polypropene_formula2"/>
            <p:cNvPicPr/>
            <p:nvPr/>
          </p:nvPicPr>
          <p:blipFill>
            <a:blip r:embed="rId5"/>
            <a:stretch/>
          </p:blipFill>
          <p:spPr>
            <a:xfrm>
              <a:off x="6472080" y="3710160"/>
              <a:ext cx="1725840" cy="182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22" descr="polypropene_formula3"/>
            <p:cNvPicPr/>
            <p:nvPr/>
          </p:nvPicPr>
          <p:blipFill>
            <a:blip r:embed="rId6"/>
            <a:stretch/>
          </p:blipFill>
          <p:spPr>
            <a:xfrm>
              <a:off x="6469200" y="3716280"/>
              <a:ext cx="1717560" cy="18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 Box 23"/>
            <p:cNvSpPr/>
            <p:nvPr/>
          </p:nvSpPr>
          <p:spPr>
            <a:xfrm>
              <a:off x="6311880" y="5622840"/>
              <a:ext cx="204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6600"/>
                  </a:solidFill>
                  <a:latin typeface="Arial"/>
                </a:rPr>
                <a:t>polypropene</a:t>
              </a:r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pic>
        <p:nvPicPr>
          <p:cNvPr id="372" name="Picture 26" descr="forward_arrow_colour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What’s the monomer?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4" name="Text Box 42"/>
          <p:cNvSpPr/>
          <p:nvPr/>
        </p:nvSpPr>
        <p:spPr>
          <a:xfrm>
            <a:off x="563400" y="784080"/>
            <a:ext cx="371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is the monomer of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polyvinylchlorid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(PVC)?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375" name="Picture 43" descr="PVC_formula"/>
          <p:cNvPicPr/>
          <p:nvPr/>
        </p:nvPicPr>
        <p:blipFill>
          <a:blip r:embed="rId1"/>
          <a:stretch/>
        </p:blipFill>
        <p:spPr>
          <a:xfrm>
            <a:off x="4781520" y="828720"/>
            <a:ext cx="1641600" cy="173520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44"/>
          <p:cNvSpPr/>
          <p:nvPr/>
        </p:nvSpPr>
        <p:spPr>
          <a:xfrm>
            <a:off x="563400" y="2625840"/>
            <a:ext cx="50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Draw two C atoms joined with a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doubl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covalent bond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77" name="Text Box 45"/>
          <p:cNvSpPr/>
          <p:nvPr/>
        </p:nvSpPr>
        <p:spPr>
          <a:xfrm>
            <a:off x="563400" y="3498840"/>
            <a:ext cx="505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dd the atoms attached to each C atom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78" name="Text Box 47"/>
          <p:cNvSpPr/>
          <p:nvPr/>
        </p:nvSpPr>
        <p:spPr>
          <a:xfrm>
            <a:off x="563400" y="4371840"/>
            <a:ext cx="40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Draw the brackets and ‘</a:t>
            </a:r>
            <a:r>
              <a:rPr b="0" i="1" lang="en-GB" sz="2400" spc="-1" strike="noStrike">
                <a:solidFill>
                  <a:srgbClr val="010066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’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grpSp>
        <p:nvGrpSpPr>
          <p:cNvPr id="379" name="Group 55"/>
          <p:cNvGrpSpPr/>
          <p:nvPr/>
        </p:nvGrpSpPr>
        <p:grpSpPr>
          <a:xfrm>
            <a:off x="6078600" y="2952720"/>
            <a:ext cx="2343240" cy="1440000"/>
            <a:chOff x="6078600" y="2952720"/>
            <a:chExt cx="2343240" cy="1440000"/>
          </a:xfrm>
        </p:grpSpPr>
        <p:pic>
          <p:nvPicPr>
            <p:cNvPr id="380" name="Picture 48" descr="vinylchloride_brackets3"/>
            <p:cNvPicPr/>
            <p:nvPr/>
          </p:nvPicPr>
          <p:blipFill>
            <a:blip r:embed="rId2"/>
            <a:stretch/>
          </p:blipFill>
          <p:spPr>
            <a:xfrm>
              <a:off x="6078600" y="2952720"/>
              <a:ext cx="23432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49" descr="vinylchloride_brackets1"/>
            <p:cNvPicPr/>
            <p:nvPr/>
          </p:nvPicPr>
          <p:blipFill>
            <a:blip r:embed="rId3"/>
            <a:stretch/>
          </p:blipFill>
          <p:spPr>
            <a:xfrm>
              <a:off x="6145200" y="2992320"/>
              <a:ext cx="2225520" cy="13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50" descr="vinylchloride_brackets2"/>
            <p:cNvPicPr/>
            <p:nvPr/>
          </p:nvPicPr>
          <p:blipFill>
            <a:blip r:embed="rId4"/>
            <a:stretch/>
          </p:blipFill>
          <p:spPr>
            <a:xfrm>
              <a:off x="6118200" y="2984400"/>
              <a:ext cx="2276640" cy="14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3" name="Text Box 51"/>
          <p:cNvSpPr/>
          <p:nvPr/>
        </p:nvSpPr>
        <p:spPr>
          <a:xfrm>
            <a:off x="563400" y="4962600"/>
            <a:ext cx="25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equation for the reaction can be drawn as: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grpSp>
        <p:nvGrpSpPr>
          <p:cNvPr id="384" name="Group 56"/>
          <p:cNvGrpSpPr/>
          <p:nvPr/>
        </p:nvGrpSpPr>
        <p:grpSpPr>
          <a:xfrm>
            <a:off x="3305160" y="4788000"/>
            <a:ext cx="4905360" cy="1735200"/>
            <a:chOff x="3305160" y="4788000"/>
            <a:chExt cx="4905360" cy="1735200"/>
          </a:xfrm>
        </p:grpSpPr>
        <p:pic>
          <p:nvPicPr>
            <p:cNvPr id="385" name="Picture 52" descr="vinylchloride_brackets"/>
            <p:cNvPicPr/>
            <p:nvPr/>
          </p:nvPicPr>
          <p:blipFill>
            <a:blip r:embed="rId5"/>
            <a:stretch/>
          </p:blipFill>
          <p:spPr>
            <a:xfrm>
              <a:off x="3305160" y="4989600"/>
              <a:ext cx="2276640" cy="13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53" descr="PVC_formula"/>
            <p:cNvPicPr/>
            <p:nvPr/>
          </p:nvPicPr>
          <p:blipFill>
            <a:blip r:embed="rId6"/>
            <a:stretch/>
          </p:blipFill>
          <p:spPr>
            <a:xfrm>
              <a:off x="6568920" y="4788000"/>
              <a:ext cx="1641600" cy="17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Text Box 54"/>
            <p:cNvSpPr/>
            <p:nvPr/>
          </p:nvSpPr>
          <p:spPr>
            <a:xfrm>
              <a:off x="5832360" y="5429160"/>
              <a:ext cx="56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Monotype Sorts"/>
                  <a:ea typeface="Monotype Sorts"/>
                </a:rPr>
                <a:t></a:t>
              </a:r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pic>
        <p:nvPicPr>
          <p:cNvPr id="388" name="Picture 57" descr="forward_arrow_colour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14:30:27Z</dcterms:created>
  <dc:creator>Boardworks Ltd.</dc:creator>
  <dc:description/>
  <dc:language>en-US</dc:language>
  <cp:lastModifiedBy>Client Admin</cp:lastModifiedBy>
  <cp:lastPrinted>2000-09-06T14:07:33Z</cp:lastPrinted>
  <dcterms:modified xsi:type="dcterms:W3CDTF">2013-02-18T13:44:00Z</dcterms:modified>
  <cp:revision>853</cp:revision>
  <dc:subject>GCSE Science - Chemistry (Autumn 2006)</dc:subject>
  <dc:title>4. Making Polymers</dc:title>
</cp:coreProperties>
</file>